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742-7A62-4432-BDAE-8E873150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B5C-3BCF-4D51-9F80-DB3611A0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1C2-5906-4031-80EC-DB0D047E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EE3-EA11-4079-A348-F3A81140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C398-B8A9-4FA2-90A9-0C51DE42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5D5A-8FBE-4216-86D5-1BA5AD32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8CCF-EDFB-42A6-B26C-1B2FECD5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C213-094E-4DEA-A306-7856F93D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52CA-E242-4C90-ACA4-9515F69A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FC5A-68EC-4020-88C5-BAE3C935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E182-6FF6-45FE-859A-400A621F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622-4EB8-458B-B66A-32BEB01D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BCA5-1D95-4D0E-9EBB-A1D05C5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E748-0644-40D0-ADFC-07E5B928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DC17-C93D-446C-A313-4C64D9D2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0D16-9118-4212-B47E-BDFA23EB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303E-7358-4DA4-862A-80BDCF8C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3EE-00CC-4CAD-AAD0-2008C612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2B3-9374-424F-906B-2964A90D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34F-C547-4DA6-BFBD-E8D37FBD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1C4-492E-43E0-8AEC-A0336A9B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38F-82FC-4E55-8A59-55624F5F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B7C-6957-4283-AEDA-1DA1C3F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1B0-1963-451C-820A-6A1CF47A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BFC6-9C56-40BD-AC0C-4B23DB2CBB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A737-8E4C-4CAE-BD56-BD42EFCC10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4582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empus Sans ITC"/>
              </a:rPr>
              <a:t>__________</a:t>
            </a:r>
            <a:r>
              <a:rPr b="0" lang="ja-JP" sz="8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8000" spc="-1" strike="noStrike">
                <a:solidFill>
                  <a:srgbClr val="000000"/>
                </a:solidFill>
                <a:latin typeface="Tempus Sans ITC"/>
              </a:rPr>
              <a:t>s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Tempus Sans ITC"/>
              </a:rPr>
              <a:t>Book of Seas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Written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empus Sans ITC"/>
              </a:rPr>
              <a:t>Fal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Fall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Winter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Winter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Spring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Spring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Summer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Tempus Sans ITC"/>
              </a:rPr>
              <a:t>Summer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00:24:54Z</dcterms:created>
  <dc:creator>Stacy Aderholt</dc:creator>
  <dc:description/>
  <dc:language>en-US</dc:language>
  <cp:lastModifiedBy>Jodie Payne</cp:lastModifiedBy>
  <dcterms:modified xsi:type="dcterms:W3CDTF">2012-04-03T23:11:15Z</dcterms:modified>
  <cp:revision>1</cp:revision>
  <dc:subject/>
  <dc:title>__________’s  Book of Seasons</dc:title>
</cp:coreProperties>
</file>